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2E1D-C235-4F3B-8141-34E94F1BEDC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НЦИП ГЮЙГЕНСА. ЗАКОН ОТРАЖЕНИЯ СВЕТ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0D81-F340-4942-BE7D-9571079A05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Законы отражения и преломления света можно вывести из одного общего принципа, описывающего поведение волн. Этот принцип впервые был выдвинут современником Ньютона Христианом Гюйгенсом.</a:t>
            </a: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юйгенс Христиан (1629-1695) – голландский физик и математик, создатель первой волновой теории света. Основы этой теории Гюйгенс изложил в «Трактате о свете» (1690). Гюйгенс впервые использовал маятник для достижения регулярного хода часов и вывел формулу для периода колебаний математического и физического маятников. Математические работы Гюйгенса касались исследования конических сечений, циклоиды и других кривых. Ему принадлежит одна из первых работ по теории вероятности. С помощью усовершенствованной им астрономической трубы Гюйгенс открыл спутник Сатурна – Тит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7001-B8F3-4B17-9382-86956C275C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нцип Гюйген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гласно принципу Гюйгенса каждая точка среды, до которой дошло возмущение, сама становится источником вторичных волн. Для того чтобы, зная положение волновой поверхности в момент времени t, найти ее положение в следующий момент времени t+∆t, нужно каждую точку волновой поверхности рассматривать как источник вторичных волн. Поверхность, касательная ко всем вторичным волнам, представляет собой волновую поверхность в следующий момент времени (рис.1). Этот принцип в равной мере пригоден для описания распространения волн любой природы: механических, световых и т. д. Гюйгенс сформулировал его первоначально именно для световых вол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механических волн принцип Гюйгенса имеет наглядное истолкование: частицы среды, до которых доходят колебания, в свою очередь, колеблясь, приводят в движение соседние частицы среды, с которыми они взаимодейству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F2D9-0DAC-4AC3-A9B7-86691C955E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он отраж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мощью принципа Гюйгенса можно вывести закон, которому подчиняются волны при отражении от границы раздела ср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отрим отражение плоской волны. Волна называется плоской, если поверхности равной фазы (волновые поверхности) представляют собой плоскости. На рис.2. MN – отражающая поверхность, прямые А1А и В1В – два луча падающей плоской волны (они параллельны друг другу). Плоскость AC – волновая поверхность этой вол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ежду падающим лучом и перпендикуляром к отражающей поверхности и точке падения называют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глом паден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новую поверхность отраженной волны можно получить, если провести огибающую вторичных волн, центры которых лежат на границе раздела сред. Различные участки волновой поверхност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остигают отражающей границы не одновременно. Возбуждение колебаний в точке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ачнется раньше, чем в точке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на время, где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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скорость волны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AD24-A62B-4599-8CAC-C3F3331485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он отраж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омент, когда волна достигнет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в этой точке начнется возбуждение колебаний, вторичная волна с центром в точке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уже будет представлять собой полусферу радиусом 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адиусы вторичных волн от источников, расположенных между точкам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няются так, как показано на рис. 2. Огибающей вторичных волн является плоскость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DН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асательная к сферическим поверхностям. Она представляет собой волновую поверхность отраженной волны. Отраженные луч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А</a:t>
            </a:r>
            <a:r>
              <a:rPr b="0" i="1" lang="ru-RU" sz="1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i="1" lang="ru-RU" sz="1200" spc="-1" strike="noStrike" baseline="-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пендикулярны волновой поверхност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DB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Угол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ежду перпендикуляром к отражающей поверхности и отраженным лучом называют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глом отражен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. к.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D=С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треугольник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AD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С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рямоугольные, то 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DBA=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CAB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о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CA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DB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ак углы с перпендикулярными сторонами. Следовательно,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гол отражения равен углу па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6EBE-1F84-4FAA-96A0-BC2DB579B8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вытекает из построения Гюйгенса, падающий луч, луч отраженный и перпендикуляр, восставленный в точке падения, лежат в одной плоскости. Эти два утверждения представляют собой закон отражения св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обратить направление распространения световых лучей, то отраженный луч станет падающим, а падающий – отраженным. Обратимость хода световых лучей – их важное свой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D99F-2192-427A-9938-5A9E49D47D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34290-6506-473B-B4C6-7662CFA2D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88F85-6394-4ED5-931E-5763B94A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E37BB-7FE2-4F03-B6A9-0A563DD06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2FAE2-1CC0-4E0B-B4D9-374479920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B594-14A1-4186-944F-D5940FE16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78CF-7F6E-443D-9E35-B0C286D2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CA83-63D7-4046-8704-3D81F131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1749-5CF8-484F-8F13-240CB738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5A26-EF10-41D2-8D30-0D6619C2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BF27-0319-446F-AE29-AF6DD17E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71F4-2BCC-4C82-8F8C-C0E1F0F4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A6613-13C5-4D2F-A223-56756FB3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CC75-92FE-4167-B453-17A14314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1C02-6030-4EF8-86FA-8E97D50B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9987-EC9D-4817-A533-F6A58DD6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68AF6-8418-4782-ADCB-5042C0A6C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5CE2-6779-4C1F-9394-34EB13510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AC78C-8E9D-45E2-B9FB-9105407A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5FEBF-51C0-42E0-9E1A-78B3031C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2D348-EBC2-4C1D-BB91-28B81491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84B77-D04E-40A7-9CE8-E9509CE9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5B1AC-D348-4896-B577-6280AD71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8463B-3ED7-4E89-A47C-0409C457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DA0A2-96AD-4143-86F1-02FEBEA2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14FA-9591-4706-8ACC-DA3620EB3D7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6781-C8AD-408F-A036-4DBEAE00C86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imes New Roman"/>
              </a:rPr>
              <a:t>ПРИНЦИП ГЮЙГЕНСА. ЗАКОН ОТРАЖЕНИЯ СВЕТА</a:t>
            </a: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779640" y="5877000"/>
            <a:ext cx="522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физики Трифоева Наталия Борис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422880" y="6237360"/>
            <a:ext cx="56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а № 489 Московского р-на 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Законы отражения и преломления света можно вывести из одного общего принципа, описывающего поведение волн. Этот принцип впервые был выдвинут современником Ньютона Христианом Гюйгенсом.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юйгенс Христиан (1629-1695) – голландский физик и математик, создатель первой волновой теории света. Основы этой теории Гюйгенс изложил в «Трактате о свете» (1690). Гюйгенс впервые использовал маятник для достижения регулярного хода часов и вывел формулу для периода колебаний математического и физического маятников. Математические работы Гюйгенса касались исследования конических сечений, циклоиды и других кривых. Ему принадлежит одна из первых работ по теории вероятности. С помощью усовершенствованной им астрономической трубы Гюйгенс открыл спутник Сатурна – Тит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Gugens"/>
          <p:cNvPicPr/>
          <p:nvPr/>
        </p:nvPicPr>
        <p:blipFill>
          <a:blip r:embed="rId1"/>
          <a:stretch/>
        </p:blipFill>
        <p:spPr>
          <a:xfrm>
            <a:off x="5435640" y="2060640"/>
            <a:ext cx="28083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Гюйген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гласно принципу Гюйгенса каждая точка среды, до которой дошло возмущение, сама становится источником вторичных волн. Для того чтобы, зная положение волновой поверхности в момент времени t, найти ее положение в следующий момент времени t+∆t, нужно каждую точку волновой поверхности рассматривать как источник вторичных волн. Поверхность, касательная ко всем вторичным волнам, представляет собой волновую поверхность в следующий момент времени (рис.1). Этот принцип в равной мере пригоден для описания распространения волн любой природы: механических, световых и т. д. Гюйгенс сформулировал его первоначально именно для световых вол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механических волн принцип Гюйгенса имеет наглядное истолкование: частицы среды, до которых доходят колебания, в свою очередь, колеблясь, приводят в движение соседние частицы среды, с которыми они взаимодействую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ris3"/>
          <p:cNvPicPr/>
          <p:nvPr/>
        </p:nvPicPr>
        <p:blipFill>
          <a:blip r:embed="rId1"/>
          <a:stretch/>
        </p:blipFill>
        <p:spPr>
          <a:xfrm>
            <a:off x="1547640" y="4606920"/>
            <a:ext cx="6048720" cy="2251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7"/>
          <p:cNvSpPr/>
          <p:nvPr/>
        </p:nvSpPr>
        <p:spPr>
          <a:xfrm>
            <a:off x="7576560" y="632952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он от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помощью принципа Гюйгенса можно вывести закон, которому подчиняются волны при отражении от границы раздела ср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смотрим отражение плоской волны. Волна называется плоской, если поверхности равной фазы (волновые поверхности) представляют собой плоскости. На рис.2. MN – отражающая поверхность, прямые А1А и В1В – два луча падающей плоской волны (они параллельны друг другу). Плоскость AC – волновая поверхность этой вол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между падающим лучом и перпендикуляром к отражающей поверхности и точке падения называю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глом пад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лновую поверхность отраженной волны можно получить, если провести огибающую вторичных волн, центры которых лежат на границе раздела сред. Различные участки волновой поверхност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остигают отражающей границы не одновременно. Возбуждение колебаний в точк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чнется раньше, чем в точк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на время, где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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— скорость волны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ris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2_1"/>
          <p:cNvPicPr/>
          <p:nvPr/>
        </p:nvPicPr>
        <p:blipFill>
          <a:blip r:embed="rId2"/>
          <a:stretch/>
        </p:blipFill>
        <p:spPr>
          <a:xfrm>
            <a:off x="6156360" y="5850000"/>
            <a:ext cx="1224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он отраже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момент, когда волна достигнет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в этой точке начнется возбуждение колебаний, вторичная волна с центром в точк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уже будет представлять собой полусферу радиусом 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Радиусы вторичных волн от источников, расположенных между точкам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няются так, как показано на рис. 2. Огибающей вторичных волн является плоскость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DН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асательная к сферическим поверхностям. Она представляет собой волновую поверхность отраженной волны. Отраженные луч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А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пендикулярны волновой поверхност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DB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Угол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между перпендикуляром к отражающей поверхности и отраженным лучом называю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глом отраж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. к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D=С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треугольник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AD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С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ямоугольные, то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DBA=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CAB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о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DB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ак углы с перпендикулярными сторонами. Следовательно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гол отражения равен углу па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ris4"/>
          <p:cNvPicPr/>
          <p:nvPr/>
        </p:nvPicPr>
        <p:blipFill>
          <a:blip r:embed="rId1"/>
          <a:stretch/>
        </p:blipFill>
        <p:spPr>
          <a:xfrm>
            <a:off x="2195640" y="5013360"/>
            <a:ext cx="46814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вытекает из построения Гюйгенса, падающий луч, луч отраженный и перпендикуляр, восставленный в точке падения, лежат в одной плоскости. Эти два утверждения представляют собой закон отражения с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обратить направление распространения световых лучей, то отраженный луч станет падающим, а падающий – отраженным. Обратимость хода световых лучей – их важное свой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20:29:49Z</dcterms:created>
  <dc:creator>Admin</dc:creator>
  <dc:description/>
  <dc:language>en-US</dc:language>
  <cp:lastModifiedBy>LEGION</cp:lastModifiedBy>
  <dcterms:modified xsi:type="dcterms:W3CDTF">2015-03-30T08:14:58Z</dcterms:modified>
  <cp:revision>5</cp:revision>
  <dc:subject/>
  <dc:title>ПРИНЦИП ГЮЙГЕНСА. ЗАКОН ОТРАЖЕНИЯ СВЕТА </dc:title>
</cp:coreProperties>
</file>